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B5E2-3BE2-44AD-AF32-6A41AE28477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1173-F1DB-4E38-8992-704ACF9FDA7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3E62-9572-4795-86CF-E4BCDA2E12D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AEFD-A8D9-4F6B-8624-A75E1720702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DA9-8B6E-4245-9EB6-A09F964C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FCA-6BE7-4EF4-B225-F25AB0E6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453-2FE5-4863-BBED-F7CE0844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EDE-6BC6-4B2B-89C8-5F5FB374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D6E-D3F2-4703-AB7C-77524333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2A3-BBA7-4473-9B39-9D71E03B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026-74E1-490B-B207-64A7A382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704C-F23A-4AC8-9468-05C23139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5CB-6277-4295-964B-DAA6D629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96B-0598-4CEE-BE45-05EE6D45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D60-28FF-409E-B3F8-5DE8481D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907-FCF6-4537-A2DA-26642DAF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FA79-9582-4CDD-A16B-E3B034FAF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845640" y="447840"/>
            <a:ext cx="6938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E О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 У МAСТИM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821600" y="1828800"/>
            <a:ext cx="6834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ТИ  42% ЕНЕРГИЈ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И УНОС 5-6 гр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% ТРИГЛИЦЕРИД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    СЛОБОДНЕ МАСНЕ КИСЕЛИН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859680" y="685800"/>
            <a:ext cx="82609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НОНЕЗАС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Е МАСНЕ КИСЕЛ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ЛМИТООЛЕИНС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ЛЕИНС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лазе се у скоро свим масти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ису неопходне у исхран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43960" y="3854520"/>
            <a:ext cx="7967160" cy="210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ИНЕЗАСИ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НЕ МАСНЕ КИСЕЛ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СЕНЦИЈАЛ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ОЛН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ОЛЕНСКА    ( мин 0,1% Е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48680" y="371520"/>
            <a:ext cx="8951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 ОДО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ТА У  УГЉЕНИМ ХИДРАТ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01760" y="1994040"/>
            <a:ext cx="835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% Е    сахароза,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уги дисахарид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онодсахариди  16%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робне материје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ЕВНИ УНОС  10-15 гр/кг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ОДСУСТВУ У.Х. ЗА  ЕНЕРГЕТСКЕ  ПОТРЕБ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ИН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47640" y="304920"/>
            <a:ext cx="672624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E O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А У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ЕРАЛ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 MAТ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ЈAМ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62640" y="1712880"/>
            <a:ext cx="5961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ДРЕЂУЈ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С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ШИЋ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ДОКР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ТЕЖ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ДБУБРЕЖ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РМО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ИСЕЛ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890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868320"/>
            <a:ext cx="83818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РОЕЛEME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0,005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Ca,P, K,Na,Mg,Cl i 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П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НИ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В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Ц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%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ДЕЛОМ У СКЕЛЕТ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38080" y="44640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ЛИГОМИНЕРАЛ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МЕ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АГ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e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767160" y="447840"/>
            <a:ext cx="7432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6996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47920" y="1050840"/>
          <a:ext cx="6095880" cy="5738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2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ТАМ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2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oflavin B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acin 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idoksin 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RE 4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i.j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. 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390600"/>
            <a:ext cx="8458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АТУРА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ОТОРНИ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ФУНК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ГИ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7200" y="1384200"/>
            <a:ext cx="8470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17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ФЕТАЛНИ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КРЕТ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ГУТА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34-36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НАЖА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ФЛЕК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СИСАЊ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ТАЊЕ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ИНХРОНО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С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СПИРАЦИЈАМ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4-6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БИ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ЕКСТРУЗИОНОГ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РЕФЛЕКС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ХВАТ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АШАСТ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6-8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ДЕНТИЦИЈ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ОНТРОЛ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В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ФАЗ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ГУТА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7-10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ЖВАК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ГРИЦКАЊ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ЛОЖЕН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КРЕТ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ЖВАКАЊА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 МРВЉЕЊ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ХВАТ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ЧВРСТ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ОЧЕ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КОРИШЋЕ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ПРИБОР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ЈЕЛО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2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28600" y="1152360"/>
            <a:ext cx="86868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СНОВ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ИНЦИП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46320" y="2374920"/>
            <a:ext cx="7824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АВ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ВО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ЉИ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ТЕР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Д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НЕМЛЕ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У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895680" y="1109520"/>
            <a:ext cx="7333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Ч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ЕЖИ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22680" y="2862360"/>
            <a:ext cx="677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ИРОД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МАЈЧИ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ВОВРС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ДОХРАЊ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ЕШТАЧ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143000" y="695160"/>
            <a:ext cx="60199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ИРОД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ОЈЕЊЕ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735480" y="3929040"/>
            <a:ext cx="729936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ЛОСТРУ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4-5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(100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ЕЛАЗ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четк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3 неде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РЕЛ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енаст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скрет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лавичаст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10320" y="2000160"/>
            <a:ext cx="842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ДЕАЛ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1 год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БЕЗБЕЂУ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ТРЕБ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026"/>
          <p:cNvSpPr/>
          <p:nvPr/>
        </p:nvSpPr>
        <p:spPr>
          <a:xfrm>
            <a:off x="1115640" y="371520"/>
            <a:ext cx="524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A ОДOЈЧЕ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7"/>
          <p:cNvSpPr/>
          <p:nvPr/>
        </p:nvSpPr>
        <p:spPr>
          <a:xfrm>
            <a:off x="830880" y="1981080"/>
            <a:ext cx="763596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Е КАРАКТЕРИСТИКЕ У ПРВОЈ ГОДИН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ВИСОКЕ НУТРИТИВНЕ ПОТРЕБ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ФИЗИОЛОШКА НЕЗРЕЛОС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279440" y="487440"/>
            <a:ext cx="5807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АСТАВ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ХУМАН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3840" y="2097000"/>
            <a:ext cx="8853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ТЕИН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r/l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АК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М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,6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ЗЕ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,7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gr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ДЕА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335400" y="25884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5040" y="981000"/>
            <a:ext cx="862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38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ИНОЛЕНС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И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16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- 6%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ИНОЛ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И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1-2%)              1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08440" y="3470400"/>
            <a:ext cx="595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ГЉЕНИ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ИДРАТИ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4560" y="4844880"/>
            <a:ext cx="862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7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47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КТ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ЛАКТ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168560" y="914400"/>
            <a:ext cx="6140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АНТИИНФЕКТИВ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1320" y="1903320"/>
            <a:ext cx="787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1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ОЛОСТРУ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0-4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838080" y="3200400"/>
            <a:ext cx="7755120" cy="35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БИОТ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“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лигосахаридни ,несварљиви састојци хране који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дукују раст "корисних"   бактер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“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 B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БИОТИЦИ : “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иви микроорганизми који позитивно делују на организам домаћина “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914400" y="979560"/>
            <a:ext cx="746748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ГВОЖЂЕ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5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45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Љ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С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И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KTO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ФЕРИ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990720" y="4373640"/>
            <a:ext cx="7086600" cy="19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Ca / 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271 /  0,141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,370/ 0,910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39880" y="1143000"/>
            <a:ext cx="7084800" cy="289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1" lang="sr-R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3366"/>
                </a:solidFill>
                <a:latin typeface="Times New Roman"/>
              </a:rPr>
              <a:t>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МА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Р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 100-24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.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Д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200240" y="4643280"/>
            <a:ext cx="6632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В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ТА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АМИ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ПТИМАЛ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36800" y="1162080"/>
            <a:ext cx="76402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РИ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Х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ЗУМ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Е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ТИВ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37320" y="1035000"/>
            <a:ext cx="7264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ЕК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АХ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ЛАЂЕНА 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4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3 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УТ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Д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75Kcal/100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84240" y="76320"/>
            <a:ext cx="801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3.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ЕЧН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НЗУМН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РАВЉЕ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ЛЕКО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09160" y="1738440"/>
            <a:ext cx="8060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5-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БЛАЖ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2: 1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инча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ва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СЛАЂ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5-7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ха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ИШЕЉА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мијс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му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-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actobacillus acidophilu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actobacillus bulgaricu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treptococcus lactis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- 7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76440" y="1143000"/>
            <a:ext cx="8258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ДНОСТИ 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OЈEЊ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БЕЗ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ЂУ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ПУ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ЗИ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м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Е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УП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ПРЕ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Ф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J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Ч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504080" y="434880"/>
            <a:ext cx="5056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ДОСТАТЦ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58920" y="2139840"/>
            <a:ext cx="90136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ЖА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КТА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sti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psсe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ОГУЋ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ЕЂИВА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ОСИСАН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ЛУМЕ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А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З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0880" y="1522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ЕНEРГEТСКЕ  И  НУТРИTIВНЕ  ПОТРЕБ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295280" y="342900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80880" y="1295280"/>
            <a:ext cx="8610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ЗРАСТ   ДЕЦ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ЗИНА RAСТЕЊ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ЕПEН  ЗРEЛОСTИ  ОРГАНИЗ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EСНА МAСA И СТЕПЕН  УХРАЊEН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IЧКА  AK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ОС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НEТСКИ  ФАKTОР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03720" y="933480"/>
            <a:ext cx="67554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ТРАИНДIКАЦИЈЕ ЗА ДОЈЕЊ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14880" y="2744640"/>
            <a:ext cx="618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АВ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СПОСОБ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МЕТУРУ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ЗБИЉ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Ш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026"/>
          <p:cNvSpPr/>
          <p:nvPr/>
        </p:nvSpPr>
        <p:spPr>
          <a:xfrm>
            <a:off x="990720" y="1519200"/>
            <a:ext cx="730080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ПУНСК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УТРИТИВ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0-40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gVit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-3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gVit 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.J VitD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271880" y="649440"/>
            <a:ext cx="48106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ТЕРНАТИВ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ЈЕЊ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3680" y="1905120"/>
            <a:ext cx="86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176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505880" y="792000"/>
            <a:ext cx="47800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ЕГ МЛЕКА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21600" y="2805120"/>
            <a:ext cx="612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С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ЛИМИ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ЕЦИЈАЛ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Ч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04280" y="511200"/>
            <a:ext cx="70524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ОКА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ЧЕТ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35640" y="2235240"/>
            <a:ext cx="501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АН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0 –2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ОСТРУ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Ј 2 НЕДЕЉЕ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 дневн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ЈЕМ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МЕСЕЦА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ЈЕМ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 МЕСЕЦА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8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ЧЕВ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Д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4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С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749520" y="944640"/>
            <a:ext cx="6566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МЛЕЧ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АД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53080" y="1870200"/>
            <a:ext cx="85262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-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РА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РЕБА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ВОЖЂА И ВЛАКНА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PRERANOG UVOĐENJ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6320" y="358920"/>
            <a:ext cx="8839080" cy="143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О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ПРЕДШКОЛ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04280" y="2309760"/>
            <a:ext cx="6170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ЕРГЕТСК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1100 –120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2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С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више од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75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ОКА !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10640" y="685800"/>
            <a:ext cx="66196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КОЛ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ОЛЕЦ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62120" y="25621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ЧАЦ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Е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Ш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ЛИ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АЈ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Р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13160" y="609480"/>
            <a:ext cx="59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ФИЗИОЛО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 НЕЗРЕЛ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89720" y="1641600"/>
            <a:ext cx="749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ЕЂУЈУ ЈЕ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ЗРЕЛЕ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ИТ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НКЦИЈЕ: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АБОЛИЧКИ   ПРОЦЕС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НАЛНА  ХОМЕОСТАЗ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762120" y="1219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АКТОРИ КОЈИ УТИЧУ НА Е и Н ПОТРЕБ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62120" y="1066680"/>
            <a:ext cx="7010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833040" y="2819520"/>
            <a:ext cx="8390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РЖАВАЊЕ ПОСТОЈЕЋИХ ТКИВ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РАЂИВАЊЕ НОВИХ ТКИВ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КА АКТИВНОС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ДИВИДУАЛНЕ РАЗЛИКЕ У ПОТРЕБАМА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09480" y="1143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КE ДНЕВ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Х ПОТРЕБА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OЈ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176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00200" y="2438280"/>
          <a:ext cx="6095880" cy="3902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РАС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cal/k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0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3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28600" y="422280"/>
            <a:ext cx="884088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У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ВНОТЕ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Ј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СХРАН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E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                           12%   ЕНEР. У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A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                                  42%   ( 35-45%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ЉЕН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АТ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46% (45-55%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УГЉЕНИХ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ДРАТA   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)  = 4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БЕЛАН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В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                                    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МАСТИ                                                          9,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437560" y="2276640"/>
            <a:ext cx="4443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АН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ВИН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ЉЕНИ ХИДРА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ЕРАЛНЕ СОЛ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МЕНТИ У ТРАГ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080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04920" y="762120"/>
            <a:ext cx="86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АНЉИВЕ МАТЕРИЈЕ ЗН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ЈНЕ У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ХРАНИ ДЕЦ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66996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699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973520" y="380880"/>
            <a:ext cx="50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Е У ПРОТЕИН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936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19320" y="1143000"/>
          <a:ext cx="6400800" cy="5559480"/>
        </p:xfrm>
        <a:graphic>
          <a:graphicData uri="http://schemas.openxmlformats.org/drawingml/2006/table">
            <a:tbl>
              <a:tblPr/>
              <a:tblGrid>
                <a:gridCol w="3278160"/>
                <a:gridCol w="3122640"/>
              </a:tblGrid>
              <a:tr h="14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РАС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ТЕИНИМ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12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-14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18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x 2,2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x 2,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/4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/4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8:23:35Z</dcterms:created>
  <dc:creator>No Name</dc:creator>
  <dc:description/>
  <dc:language>en-US</dc:language>
  <cp:lastModifiedBy>User</cp:lastModifiedBy>
  <dcterms:modified xsi:type="dcterms:W3CDTF">2020-09-27T16:50:23Z</dcterms:modified>
  <cp:revision>66</cp:revision>
  <dc:subject/>
  <dc:title>PowerPoint Presentation</dc:title>
</cp:coreProperties>
</file>