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591-36EA-4ACD-8A2D-5BD25F4C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493-250E-4757-8678-2DE54C17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67E-A87D-4FA5-9B25-EDFF293D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EF7-A7DB-4DA1-9080-D2183544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CCAB-FF2F-4717-A989-6118838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44F-813C-4005-8F7F-490A69E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7B4-D8E1-4117-8E0D-B2BBA3D5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74C-9B0B-4931-B1F6-3CC6799D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669-69B5-4B43-8BD3-547537A3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913-8F2F-444B-957E-FDA2279C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2FB-B231-414E-9CEA-DDB3B3A9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BDA-C286-4722-8461-0FE0BBD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52C8-80A6-4366-92D3-D3C834B55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30840" y="457200"/>
            <a:ext cx="85219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РЕМ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ЋАЈ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ДИГЕСТ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нкреа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т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б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холест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y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а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о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и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нутриц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секундар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Л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СОРПЦИЈ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ијач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лаз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олеран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mbliа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r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krodermatiti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patica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70000" y="1179360"/>
            <a:ext cx="9788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УТРИТИВН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Т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БЕ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ТУРУ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В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НУТР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ambl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d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ЗИ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ЛИ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СТМ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ГИ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БРИЛНО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РЕ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3920" y="654120"/>
            <a:ext cx="83782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МАЊ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 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БОЛИЗАМ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ГЕНИТ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Ц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ЈЕН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J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Б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ПОТИР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ПРИВА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1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4. 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A</a:t>
            </a:r>
            <a:r>
              <a:rPr b="1" lang="sr-RS" sz="3200" spc="-1" strike="noStrike">
                <a:solidFill>
                  <a:srgbClr val="7f7f7f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7f7f7f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3480" y="971640"/>
            <a:ext cx="10177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ГУБИТАК НУТРИЈЕНАТ</a:t>
            </a:r>
            <a:r>
              <a:rPr b="1" lang="sl-SI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жа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И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суда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опат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убрег__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фрот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s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јаб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литу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ена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у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рн пор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ћај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533520"/>
            <a:ext cx="754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ОСТ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њ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тивног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ОБАЛ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.)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лор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ктроли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елеменат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554040"/>
            <a:ext cx="91440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ТИО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ЛЕСТИ МАЈ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шк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лнутри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з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хр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јетр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рдиопулмон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ољењ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 есенцијалн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пертенз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УФИЦИЈЕНЦИЈ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аркт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в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блација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лацент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ЕЗ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раутерин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екције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аболичк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ремећаји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533520"/>
            <a:ext cx="975348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ЛОБАЛ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НУТРИЦ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Р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M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60%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О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. 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T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60-8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587520"/>
            <a:ext cx="1198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АТОГЕНЕЗ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ДОВ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Љ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ЋАЈ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ПЦИЈ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Н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ЊЕН  А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ОЛИЗ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СОК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УБИТАК Н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ЕНА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11160" y="1371600"/>
            <a:ext cx="68914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ЕДОВОЉАН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НОС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ОРЕКСИЈА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ШКОЋ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РАЊЕЊУ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ВРАЋАЊ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72800" y="628560"/>
            <a:ext cx="69076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НОРЕКСИЈ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М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23840" y="666720"/>
            <a:ext cx="7912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ШКО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РАЊ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БНОР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С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ПЉ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Њ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ЛБАР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ПРОХ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СП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8840" y="961920"/>
            <a:ext cx="66852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ВРАЋ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АСТРОЕ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УСНИ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ЛУК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ИЛОРИ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Љ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Р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ТИВ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Л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4:27:22Z</dcterms:created>
  <dc:creator>No Name</dc:creator>
  <dc:description/>
  <dc:language>en-US</dc:language>
  <cp:lastModifiedBy>User</cp:lastModifiedBy>
  <dcterms:modified xsi:type="dcterms:W3CDTF">2020-09-27T16:52:19Z</dcterms:modified>
  <cp:revision>35</cp:revision>
  <dc:subject/>
  <dc:title>PowerPoint Presentation</dc:title>
</cp:coreProperties>
</file>