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C620-0287-4011-9E2F-4AFE15654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01DC-7C03-4AAF-9B7E-E735805F9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BBB7-C6BD-40F7-8150-C9ED52FD3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B002-D510-405F-8C68-1F377A9F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E47-09A2-4FD8-BA11-8969A32A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8E7-8CD8-4370-9DAD-447665FE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AB6-D3E6-4851-B23C-C409FE9B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A552-8B74-4BCD-AFE6-05473476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F572-7B02-4202-A6A2-C1AAAF5F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F718-35C9-454C-9187-1DDF8654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A608-568B-4377-A0A6-FB0FFE1B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DCF7-B789-4EE7-8FD3-E5FC7316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5F3B-35F4-4071-A60A-00E626E4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9AFC-CCD1-4531-A9EB-E46B3632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06B0-B157-43BB-96F0-2B275BC2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3689-367D-429D-A113-0E6FEFDE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035D-D5E9-494A-9FDD-FBE31AC5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222C-FDB5-431E-BC67-4E16A9C8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A14F-836D-420C-9CF7-CE34D945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D894-6415-4FB2-A410-66575EF6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CB36-2A77-4D1F-BF2B-4E0F7BE9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DDC-D4F9-423B-80D6-7D9A0542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530-A4C2-4C4D-BBF2-1963DE62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513-97C0-40CD-84D1-6156F5A6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F0D3-550C-43DF-853E-B19B6086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1C2B-BA19-4846-A69C-7C03B2DC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C4C-69E8-4519-A377-EA60E83D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A95B-3E22-4151-A3FA-B8CE5DEEB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B5B7-AA01-4BA3-9E0E-28B0429CD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едијатрија – Исхрана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50920"/>
            <a:ext cx="815364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утритивн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треб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тет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т Д </a:t>
            </a:r>
            <a:r>
              <a:rPr b="0" i="1" lang="sl-SI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l-SI" sz="3200" spc="-1" strike="noStrike">
                <a:solidFill>
                  <a:srgbClr val="000000"/>
                </a:solidFill>
                <a:latin typeface="Times New Roman"/>
              </a:rPr>
              <a:t>IJ/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6320" y="1676520"/>
          <a:ext cx="4495680" cy="4483080"/>
        </p:xfrm>
        <a:graphic>
          <a:graphicData uri="http://schemas.openxmlformats.org/drawingml/2006/table">
            <a:tbl>
              <a:tblPr/>
              <a:tblGrid>
                <a:gridCol w="1753920"/>
                <a:gridCol w="978120"/>
                <a:gridCol w="938160"/>
                <a:gridCol w="825480"/>
              </a:tblGrid>
              <a:tr h="1325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zr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god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6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– 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 –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–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–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476600" y="1649520"/>
          <a:ext cx="4594320" cy="4575240"/>
        </p:xfrm>
        <a:graphic>
          <a:graphicData uri="http://schemas.openxmlformats.org/drawingml/2006/table">
            <a:tbl>
              <a:tblPr/>
              <a:tblGrid>
                <a:gridCol w="1532160"/>
                <a:gridCol w="1530360"/>
                <a:gridCol w="1531800"/>
              </a:tblGrid>
              <a:tr h="102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zrast (god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AR,CN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, FNB,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≤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–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≥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UDNI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OJIL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Box 7"/>
          <p:cNvSpPr/>
          <p:nvPr/>
        </p:nvSpPr>
        <p:spPr>
          <a:xfrm>
            <a:off x="155520" y="6319800"/>
            <a:ext cx="4157640" cy="477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200" spc="-1" strike="noStrike">
                <a:solidFill>
                  <a:srgbClr val="ffffff"/>
                </a:solidFill>
                <a:latin typeface="Arial Narrow"/>
              </a:rPr>
              <a:t>World Health Organization, 1974; National Academy of Science (USA),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sl-SI" sz="1200" spc="-1" strike="noStrike">
                <a:solidFill>
                  <a:srgbClr val="ffffff"/>
                </a:solidFill>
                <a:latin typeface="Arial Narrow"/>
              </a:rPr>
              <a:t>1989;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sl-SI" sz="1200" spc="-1" strike="noStrike">
                <a:solidFill>
                  <a:srgbClr val="ffffff"/>
                </a:solidFill>
                <a:latin typeface="Arial Narrow"/>
              </a:rPr>
              <a:t>Department of Health (UK), 199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4571640" y="6334200"/>
            <a:ext cx="4460400" cy="459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Narrow"/>
              </a:rPr>
              <a:t>( AAP, CN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– American Academy of Pediatrics, Committee on Nutrition, 200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Narrow"/>
              </a:rPr>
              <a:t>FNB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– </a:t>
            </a:r>
            <a:r>
              <a:rPr b="1" i="1" lang="en-US" sz="1200" spc="-1" strike="noStrike">
                <a:solidFill>
                  <a:srgbClr val="ffffff"/>
                </a:solidFill>
                <a:latin typeface="Arial Narrow"/>
              </a:rPr>
              <a:t>Institute of Medicine, </a:t>
            </a: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Food and Nutrition Board, 2010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955440" y="958680"/>
            <a:ext cx="7217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Р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АКОДНЕВН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НОС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400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Д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ТЕТ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АК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А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ЛА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УНЦ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ОЈЧ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ДАПТИРАНОЈ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ОРМУЛ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ХТЕ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ДАТН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95360" y="914400"/>
            <a:ext cx="8245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ЗИРАЊ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Т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А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НЦ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ОГУЋ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РАЊЕЊ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ХИСТЕРО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МИСТЕРО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ШТЕЊЕ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РАЊУЈ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БРА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ЊЕ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АН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Ш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АХИТИ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520" y="1447920"/>
            <a:ext cx="43434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МАЛАЦИЈА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У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ТОКУ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РАСТА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pl-PL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РАЗВОЈА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1" lang="sr-RS" sz="1900" spc="-1" strike="noStrike" u="sng">
                <a:solidFill>
                  <a:srgbClr val="000000"/>
                </a:solidFill>
                <a:uFillTx/>
                <a:latin typeface="Arial Narrow"/>
              </a:rPr>
              <a:t>ОСТЕОГЕНЕЗА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веома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сложен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динамићан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процес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метаболизам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Arial Narrow"/>
              </a:rPr>
              <a:t>Ca i P 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доминантан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МАЛАЦИЈА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изостаје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минералн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део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ПОРОЗА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недостаје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органск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матр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x -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протеин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Arial Narrow"/>
              </a:rPr>
              <a:t>ОСТЕОПЕНИЈА</a:t>
            </a:r>
            <a:r>
              <a:rPr b="1" lang="en-US" sz="19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остеомалација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остеопороза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Arial Narrow"/>
              </a:rPr>
              <a:t>заједно</a:t>
            </a: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l-PL" sz="1900" spc="-1" strike="noStrike">
                <a:solidFill>
                  <a:srgbClr val="ff0000"/>
                </a:solidFill>
                <a:latin typeface="Arial Narrow"/>
              </a:rPr>
              <a:t>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723920" y="1600200"/>
            <a:ext cx="39625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Класификациј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рахит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прем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етиопатогенези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)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Ca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Arial Narrow"/>
              </a:rPr>
              <a:t>ДЕФИЦИТН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Vi D   deficitn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t D  za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sn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T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p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t D  zav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sn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T</a:t>
            </a:r>
            <a:r>
              <a:rPr b="0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p 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 Narrow"/>
              </a:rPr>
              <a:t>Б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) 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P </a:t>
            </a: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DEFIC</a:t>
            </a: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TN</a:t>
            </a: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( Vit D rezsitentni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Фамилијарн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 Narrow"/>
              </a:rPr>
              <a:t>хипофосфатемија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Fanconi S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РАХИТИС   ВИТ.  Д  ДЕФИЦИТ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ЈЧЕШЋ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довољан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Вит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одојчад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ругој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ловини жив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достатак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фотолиз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ој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фаворизуј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алапсорпцију калцију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злаж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унцу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тамн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у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адаптираним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крављим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мле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еобилан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житар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КЛИНИЧКА СЛИКА РАХИТИ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ШТА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ФОРМИТ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ТЕОМАЛАЦИ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ПЕРПЛАЗИЈ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теоидно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ткив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лав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руд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ш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кстремит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раниотабе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F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кас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тварање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руд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ш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вонас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бројан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арисонов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в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5486400" y="1533600"/>
            <a:ext cx="3124080" cy="509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КЛИНИЧКА СЛИКА РАХИТИ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исталним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крајцим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екстремитет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задебљањ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дручју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тафи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gena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ru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ра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ара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ва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пшт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ишич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лабост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истензиј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бдоме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оторн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етардациј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хипокалцемијск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танија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6280200" y="2428920"/>
            <a:ext cx="2711520" cy="4048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3733920" y="4714920"/>
            <a:ext cx="23619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РТГ ЗНАЦИ РАХИТИ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Content Placeholder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00852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4267080" y="1581120"/>
            <a:ext cx="2800440" cy="26859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4191120" y="4618080"/>
            <a:ext cx="4572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tg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скелета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деминерализац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деформациј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задебљањ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метафиз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,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широк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епифизометафизал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границ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најизраженије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ручј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колену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819160"/>
            <a:ext cx="82296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рактеристич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зикални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лаз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више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лкалн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сфатаз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бично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ормала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пер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TH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ниже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25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иж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ред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ТЕРАП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Calibri"/>
              </a:rPr>
              <a:t>Витамин Д </a:t>
            </a:r>
            <a:r>
              <a:rPr b="1" lang="sr-Latn-RS" sz="2500" spc="-1" strike="noStrike">
                <a:solidFill>
                  <a:srgbClr val="000000"/>
                </a:solidFill>
                <a:latin typeface="Calibri"/>
              </a:rPr>
              <a:t>2000 -5000 IJ dnevno 4-8 nedelja (10 -20 kapi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деква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рекција грешака у исхрани , м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кроб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тат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фата, више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л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млечних производа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ЛК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ОСФ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1-2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А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3-4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Д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Љ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E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ОРМАЛН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TG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M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ИДЉИВ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3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Љ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сле санације уобичајена профилак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2280" y="228600"/>
            <a:ext cx="8602920" cy="65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ИТАМ</a:t>
            </a:r>
            <a:r>
              <a:rPr b="1" lang="sr-R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 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БИОЛ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ШК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БЛИЦ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тероид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ривата холестерола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ero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i="1" lang="sl-SI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olekalciferol (D</a:t>
            </a:r>
            <a:r>
              <a:rPr b="1" i="1" lang="sl-SI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Ж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ВИТАМ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7 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Х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sl-SI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НЧЕВ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СВ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ЛОС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Н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ВИТ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sl-SI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ОЛЕКА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ЦИФ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</a:rPr>
              <a:t>ОЛ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ontent Placeholder 3" descr="Reaction-Dehydrocholesterol-PrevitaminD3.png"/>
          <p:cNvPicPr/>
          <p:nvPr/>
        </p:nvPicPr>
        <p:blipFill>
          <a:blip r:embed="rId1"/>
          <a:stretch/>
        </p:blipFill>
        <p:spPr>
          <a:xfrm>
            <a:off x="3594240" y="3276720"/>
            <a:ext cx="516888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533520" y="17524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ЗАВИСИ О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еографс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шир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одишње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о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уж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злаг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унц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олич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елан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кож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об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а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уж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злаг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унц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тепе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зашти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ун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Content Placeholder 3" descr="Skinlayers.png"/>
          <p:cNvPicPr/>
          <p:nvPr/>
        </p:nvPicPr>
        <p:blipFill>
          <a:blip r:embed="rId1"/>
          <a:stretch/>
        </p:blipFill>
        <p:spPr>
          <a:xfrm>
            <a:off x="4648320" y="1766880"/>
            <a:ext cx="3962160" cy="37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Rectangle 3"/>
          <p:cNvSpPr/>
          <p:nvPr/>
        </p:nvSpPr>
        <p:spPr>
          <a:xfrm>
            <a:off x="3962520" y="5834160"/>
            <a:ext cx="4724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пидермални кератоцити и дермални фибробла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57200" y="457200"/>
            <a:ext cx="754380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Степе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кожн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продукциј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 витами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88280" y="228600"/>
            <a:ext cx="9180000" cy="69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ХРАНА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ивотињск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ибљ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љ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иб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уманц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џигериц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огаће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леч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рму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уте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ТРАНСПО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itamin D Binding Protein ( DBP )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ru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ор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ризација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сич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е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боли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 lumisterol, tahisterol, suprasterol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sr-R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R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5,6 trans holekacifer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меланинск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заштитни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то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пер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тн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кожно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сквамацијом ,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ничени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 DBP )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транспортним капацитет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Итоксикација Витамином Д излагањем сунцу немогућ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нос храном или суплемената – липосолубилне супстанце – хиломикрон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циркулацију –лимфоток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28600" y="76320"/>
            <a:ext cx="5562720" cy="64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ОЛОШ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ЛОГ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. 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ГУЛ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ХОМЕОСТА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ИНЕРАЛИЗ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ШТАН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ГЛОБН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КИ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СИНТЕ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РАНСПОРТН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ЦРЕВИ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ИМУЛИШ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АП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а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AK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УБУЛ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ЛИФЕРАЦИ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ФЕРЕНЦИЈАЦИ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ЋЕЛ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ИМУНОРЕГУЛ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5500800" y="838080"/>
            <a:ext cx="3414600" cy="543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ontent Placeholder 3" descr="001.JPG"/>
          <p:cNvPicPr/>
          <p:nvPr/>
        </p:nvPicPr>
        <p:blipFill>
          <a:blip r:embed="rId1"/>
          <a:stretch/>
        </p:blipFill>
        <p:spPr>
          <a:xfrm>
            <a:off x="712800" y="1295280"/>
            <a:ext cx="7759800" cy="54882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838080" y="528480"/>
            <a:ext cx="76201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ОЛОШ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ЛОГ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228600" y="390600"/>
            <a:ext cx="7315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Д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NCLASSIC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ФEК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04920" y="1203480"/>
            <a:ext cx="5181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дулација Т и Б лимфоци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пресија реналне секре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имулација инсулинске секре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гулација синтезе и ослобађањ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TH, ТSХ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неких других хорм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Content Placeholder 3" descr="006.JPG"/>
          <p:cNvPicPr/>
          <p:nvPr/>
        </p:nvPicPr>
        <p:blipFill>
          <a:blip r:embed="rId1"/>
          <a:stretch/>
        </p:blipFill>
        <p:spPr>
          <a:xfrm>
            <a:off x="95400" y="3048120"/>
            <a:ext cx="89676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228600" y="11430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лац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фици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оле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малигните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( коло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оста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ој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јајн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аутоиму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( мултип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склеро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ти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алергијс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V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уролош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сихијатријс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ок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трудноћ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ре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ежељен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ефек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фету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већ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ризи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гестацио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дијабете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ееклампс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хирурш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ревреме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порођа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274680" y="533520"/>
            <a:ext cx="4292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Д ПОТРЕБ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-762120" y="2644920"/>
            <a:ext cx="9753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о се задовољавају излагањем сунц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ндрадна храна генералн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довољ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а покрије потре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 x недељно директно излагање сунц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15 мин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15% површин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же ( лице, руке, ноге ) у средњеевропским климатским условима , могу задовољити потребе за вит. 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322200" y="685800"/>
            <a:ext cx="42498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 Д ПОТРЕБ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8:37:51Z</dcterms:created>
  <dc:creator>No Name</dc:creator>
  <dc:description/>
  <dc:language>en-US</dc:language>
  <cp:lastModifiedBy>User</cp:lastModifiedBy>
  <dcterms:modified xsi:type="dcterms:W3CDTF">2020-09-27T16:59:19Z</dcterms:modified>
  <cp:revision>39</cp:revision>
  <dc:subject/>
  <dc:title>PowerPoint Presentation</dc:title>
</cp:coreProperties>
</file>